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240" y="609480"/>
            <a:ext cx="9123120" cy="5638680"/>
            <a:chOff x="3240" y="609480"/>
            <a:chExt cx="9123120" cy="5638680"/>
          </a:xfrm>
        </p:grpSpPr>
        <p:grpSp>
          <p:nvGrpSpPr>
            <p:cNvPr id="1" name=""/>
            <p:cNvGrpSpPr/>
            <p:nvPr/>
          </p:nvGrpSpPr>
          <p:grpSpPr>
            <a:xfrm>
              <a:off x="3240" y="4286160"/>
              <a:ext cx="9123120" cy="1528920"/>
              <a:chOff x="3240" y="4286160"/>
              <a:chExt cx="9123120" cy="152892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3240" y="4286160"/>
                <a:ext cx="9123120" cy="0"/>
              </a:xfrm>
              <a:prstGeom prst="line">
                <a:avLst/>
              </a:prstGeom>
              <a:ln w="2556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3240" y="4438800"/>
                <a:ext cx="9123120" cy="0"/>
              </a:xfrm>
              <a:prstGeom prst="line">
                <a:avLst/>
              </a:prstGeom>
              <a:ln w="2556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3240" y="4591080"/>
                <a:ext cx="9123120" cy="0"/>
              </a:xfrm>
              <a:prstGeom prst="line">
                <a:avLst/>
              </a:prstGeom>
              <a:ln w="25560">
                <a:solidFill>
                  <a:srgbClr val="ff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3240" y="4743360"/>
                <a:ext cx="9123120" cy="0"/>
              </a:xfrm>
              <a:prstGeom prst="line">
                <a:avLst/>
              </a:prstGeom>
              <a:ln w="25560">
                <a:solidFill>
                  <a:srgbClr val="ff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3240" y="4896000"/>
                <a:ext cx="912312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3240" y="5048280"/>
                <a:ext cx="912312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3240" y="5200560"/>
                <a:ext cx="912312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3240" y="5353200"/>
                <a:ext cx="9123120" cy="0"/>
              </a:xfrm>
              <a:prstGeom prst="line">
                <a:avLst/>
              </a:prstGeom>
              <a:ln w="255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3240" y="5505480"/>
                <a:ext cx="9123120" cy="0"/>
              </a:xfrm>
              <a:prstGeom prst="line">
                <a:avLst/>
              </a:prstGeom>
              <a:ln w="255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3240" y="5657760"/>
                <a:ext cx="9123120" cy="0"/>
              </a:xfrm>
              <a:prstGeom prst="line">
                <a:avLst/>
              </a:prstGeom>
              <a:ln w="25560">
                <a:solidFill>
                  <a:srgbClr val="8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flipV="1">
                <a:off x="3240" y="5810400"/>
                <a:ext cx="9120240" cy="4680"/>
              </a:xfrm>
              <a:prstGeom prst="line">
                <a:avLst/>
              </a:prstGeom>
              <a:ln w="25560">
                <a:solidFill>
                  <a:srgbClr val="8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2920" bIns="-52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" name=""/>
            <p:cNvSpPr/>
            <p:nvPr/>
          </p:nvSpPr>
          <p:spPr>
            <a:xfrm>
              <a:off x="728640" y="609480"/>
              <a:ext cx="7686720" cy="5638680"/>
            </a:xfrm>
            <a:prstGeom prst="rect">
              <a:avLst/>
            </a:prstGeom>
            <a:solidFill>
              <a:srgbClr val="676767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76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3362400" y="1001880"/>
            <a:ext cx="2419200" cy="585720"/>
          </a:xfrm>
          <a:prstGeom prst="rect">
            <a:avLst/>
          </a:prstGeom>
          <a:solidFill>
            <a:srgbClr val="474747"/>
          </a:solidFill>
          <a:ln w="0">
            <a:noFill/>
          </a:ln>
          <a:effectLst>
            <a:outerShdw dist="0" dir="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GENSCR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990720" y="190512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143000" y="213372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3505320" y="2438280"/>
            <a:ext cx="2438280" cy="685800"/>
          </a:xfrm>
          <a:prstGeom prst="rect">
            <a:avLst/>
          </a:prstGeom>
          <a:solidFill>
            <a:srgbClr val="676767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oxP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Screen Buil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3505320" y="3657600"/>
            <a:ext cx="2438280" cy="762120"/>
          </a:xfrm>
          <a:prstGeom prst="rect">
            <a:avLst/>
          </a:prstGeom>
          <a:solidFill>
            <a:srgbClr val="676767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GENSC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3657600" y="5181480"/>
            <a:ext cx="2209680" cy="533520"/>
          </a:xfrm>
          <a:prstGeom prst="rect">
            <a:avLst/>
          </a:prstGeom>
          <a:solidFill>
            <a:srgbClr val="676767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FoxP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ource Co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495680" y="3276720"/>
            <a:ext cx="533880" cy="305280"/>
          </a:xfrm>
          <a:custGeom>
            <a:avLst/>
            <a:gdLst/>
            <a:ahLst/>
            <a:rect l="0" t="0" r="r" b="b"/>
            <a:pathLst>
              <a:path w="1483" h="848">
                <a:moveTo>
                  <a:pt x="494" y="0"/>
                </a:moveTo>
                <a:lnTo>
                  <a:pt x="987" y="0"/>
                </a:lnTo>
                <a:lnTo>
                  <a:pt x="987" y="593"/>
                </a:lnTo>
                <a:lnTo>
                  <a:pt x="1483" y="593"/>
                </a:lnTo>
                <a:lnTo>
                  <a:pt x="741" y="848"/>
                </a:lnTo>
                <a:lnTo>
                  <a:pt x="0" y="593"/>
                </a:lnTo>
                <a:lnTo>
                  <a:pt x="494" y="593"/>
                </a:lnTo>
                <a:lnTo>
                  <a:pt x="494" y="0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495680" y="4648320"/>
            <a:ext cx="533880" cy="305280"/>
          </a:xfrm>
          <a:custGeom>
            <a:avLst/>
            <a:gdLst/>
            <a:ahLst/>
            <a:rect l="0" t="0" r="r" b="b"/>
            <a:pathLst>
              <a:path w="1483" h="848">
                <a:moveTo>
                  <a:pt x="494" y="0"/>
                </a:moveTo>
                <a:lnTo>
                  <a:pt x="987" y="0"/>
                </a:lnTo>
                <a:lnTo>
                  <a:pt x="987" y="593"/>
                </a:lnTo>
                <a:lnTo>
                  <a:pt x="1483" y="593"/>
                </a:lnTo>
                <a:lnTo>
                  <a:pt x="741" y="848"/>
                </a:lnTo>
                <a:lnTo>
                  <a:pt x="0" y="593"/>
                </a:lnTo>
                <a:lnTo>
                  <a:pt x="494" y="593"/>
                </a:lnTo>
                <a:lnTo>
                  <a:pt x="494" y="0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5181480" y="3276720"/>
            <a:ext cx="762120" cy="2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static 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5181480" y="4648320"/>
            <a:ext cx="762120" cy="2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static ASCII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76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3197160" y="1001880"/>
            <a:ext cx="2749680" cy="585720"/>
          </a:xfrm>
          <a:prstGeom prst="rect">
            <a:avLst/>
          </a:prstGeom>
          <a:solidFill>
            <a:srgbClr val="474747"/>
          </a:solidFill>
          <a:ln w="0">
            <a:noFill/>
          </a:ln>
          <a:effectLst>
            <a:outerShdw dist="0" dir="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GENSCRN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990720" y="190512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213372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1371600" y="2362320"/>
            <a:ext cx="2438280" cy="685800"/>
          </a:xfrm>
          <a:prstGeom prst="rect">
            <a:avLst/>
          </a:prstGeom>
          <a:solidFill>
            <a:srgbClr val="676767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oxP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Screen Buil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1371600" y="3657600"/>
            <a:ext cx="2438280" cy="762120"/>
          </a:xfrm>
          <a:prstGeom prst="rect">
            <a:avLst/>
          </a:prstGeom>
          <a:solidFill>
            <a:srgbClr val="676767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ENSCRN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1523880" y="5181480"/>
            <a:ext cx="2209680" cy="533520"/>
          </a:xfrm>
          <a:prstGeom prst="rect">
            <a:avLst/>
          </a:prstGeom>
          <a:solidFill>
            <a:srgbClr val="676767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FoxP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ource Co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3200400"/>
            <a:ext cx="533880" cy="305280"/>
          </a:xfrm>
          <a:custGeom>
            <a:avLst/>
            <a:gdLst/>
            <a:ahLst/>
            <a:rect l="0" t="0" r="r" b="b"/>
            <a:pathLst>
              <a:path w="1483" h="848">
                <a:moveTo>
                  <a:pt x="494" y="0"/>
                </a:moveTo>
                <a:lnTo>
                  <a:pt x="987" y="0"/>
                </a:lnTo>
                <a:lnTo>
                  <a:pt x="987" y="593"/>
                </a:lnTo>
                <a:lnTo>
                  <a:pt x="1483" y="593"/>
                </a:lnTo>
                <a:lnTo>
                  <a:pt x="741" y="848"/>
                </a:lnTo>
                <a:lnTo>
                  <a:pt x="0" y="593"/>
                </a:lnTo>
                <a:lnTo>
                  <a:pt x="494" y="593"/>
                </a:lnTo>
                <a:lnTo>
                  <a:pt x="494" y="0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362320" y="4648320"/>
            <a:ext cx="533880" cy="305280"/>
          </a:xfrm>
          <a:custGeom>
            <a:avLst/>
            <a:gdLst/>
            <a:ahLst/>
            <a:rect l="0" t="0" r="r" b="b"/>
            <a:pathLst>
              <a:path w="1483" h="848">
                <a:moveTo>
                  <a:pt x="494" y="0"/>
                </a:moveTo>
                <a:lnTo>
                  <a:pt x="987" y="0"/>
                </a:lnTo>
                <a:lnTo>
                  <a:pt x="987" y="593"/>
                </a:lnTo>
                <a:lnTo>
                  <a:pt x="1483" y="593"/>
                </a:lnTo>
                <a:lnTo>
                  <a:pt x="741" y="848"/>
                </a:lnTo>
                <a:lnTo>
                  <a:pt x="0" y="593"/>
                </a:lnTo>
                <a:lnTo>
                  <a:pt x="494" y="593"/>
                </a:lnTo>
                <a:lnTo>
                  <a:pt x="494" y="0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5638680" y="3657600"/>
            <a:ext cx="2438280" cy="762120"/>
          </a:xfrm>
          <a:prstGeom prst="rect">
            <a:avLst/>
          </a:prstGeom>
          <a:solidFill>
            <a:srgbClr val="676767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GENSC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62520" y="39625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848" y="282"/>
                </a:moveTo>
                <a:lnTo>
                  <a:pt x="848" y="564"/>
                </a:lnTo>
                <a:lnTo>
                  <a:pt x="255" y="564"/>
                </a:lnTo>
                <a:lnTo>
                  <a:pt x="255" y="848"/>
                </a:lnTo>
                <a:lnTo>
                  <a:pt x="0" y="424"/>
                </a:lnTo>
                <a:lnTo>
                  <a:pt x="255" y="0"/>
                </a:lnTo>
                <a:lnTo>
                  <a:pt x="255" y="282"/>
                </a:lnTo>
                <a:lnTo>
                  <a:pt x="848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181480" y="3657600"/>
            <a:ext cx="381240" cy="305280"/>
          </a:xfrm>
          <a:custGeom>
            <a:avLst/>
            <a:gdLst/>
            <a:ahLst/>
            <a:rect l="0" t="0" r="r" b="b"/>
            <a:pathLst>
              <a:path w="1059" h="848">
                <a:moveTo>
                  <a:pt x="0" y="282"/>
                </a:moveTo>
                <a:lnTo>
                  <a:pt x="0" y="564"/>
                </a:lnTo>
                <a:lnTo>
                  <a:pt x="741" y="564"/>
                </a:lnTo>
                <a:lnTo>
                  <a:pt x="741" y="848"/>
                </a:lnTo>
                <a:lnTo>
                  <a:pt x="1059" y="424"/>
                </a:lnTo>
                <a:lnTo>
                  <a:pt x="741" y="0"/>
                </a:lnTo>
                <a:lnTo>
                  <a:pt x="741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3200400" y="4648320"/>
            <a:ext cx="762120" cy="2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modified ASCII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114800" y="3733920"/>
            <a:ext cx="762120" cy="2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modified 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3048120" y="3200400"/>
            <a:ext cx="762120" cy="2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static 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495680" y="4038480"/>
            <a:ext cx="762120" cy="2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static ASCII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5638680" y="4800600"/>
            <a:ext cx="1447920" cy="609480"/>
          </a:xfrm>
          <a:prstGeom prst="rect">
            <a:avLst/>
          </a:prstGeom>
          <a:solidFill>
            <a:srgbClr val="676767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.SPR driv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90920" y="2895480"/>
            <a:ext cx="3048480" cy="762480"/>
          </a:xfrm>
          <a:custGeom>
            <a:avLst/>
            <a:gdLst/>
            <a:ahLst/>
            <a:rect l="0" t="0" r="r" b="b"/>
            <a:pathLst>
              <a:path fill="none" w="8468" h="2118">
                <a:moveTo>
                  <a:pt x="0" y="2118"/>
                </a:moveTo>
                <a:lnTo>
                  <a:pt x="0" y="2118"/>
                </a:lnTo>
                <a:cubicBezTo>
                  <a:pt x="1486" y="2118"/>
                  <a:pt x="2947" y="2020"/>
                  <a:pt x="4234" y="1834"/>
                </a:cubicBezTo>
                <a:cubicBezTo>
                  <a:pt x="5521" y="1648"/>
                  <a:pt x="6590" y="1381"/>
                  <a:pt x="7334" y="1059"/>
                </a:cubicBezTo>
                <a:cubicBezTo>
                  <a:pt x="8077" y="737"/>
                  <a:pt x="8468" y="372"/>
                  <a:pt x="8468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90920" y="4419720"/>
            <a:ext cx="3048480" cy="762480"/>
          </a:xfrm>
          <a:custGeom>
            <a:avLst/>
            <a:gdLst/>
            <a:ahLst/>
            <a:rect l="0" t="0" r="r" b="b"/>
            <a:pathLst>
              <a:path fill="none" w="8468" h="2118">
                <a:moveTo>
                  <a:pt x="8468" y="2118"/>
                </a:moveTo>
                <a:lnTo>
                  <a:pt x="8468" y="2118"/>
                </a:lnTo>
                <a:lnTo>
                  <a:pt x="8468" y="2118"/>
                </a:lnTo>
                <a:cubicBezTo>
                  <a:pt x="8468" y="1746"/>
                  <a:pt x="8077" y="1381"/>
                  <a:pt x="7334" y="1059"/>
                </a:cubicBezTo>
                <a:cubicBezTo>
                  <a:pt x="6590" y="737"/>
                  <a:pt x="5521" y="470"/>
                  <a:pt x="4234" y="284"/>
                </a:cubicBezTo>
                <a:cubicBezTo>
                  <a:pt x="2947" y="98"/>
                  <a:pt x="1486" y="0"/>
                  <a:pt x="0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5638680" y="2590920"/>
            <a:ext cx="1447920" cy="609480"/>
          </a:xfrm>
          <a:prstGeom prst="rect">
            <a:avLst/>
          </a:prstGeom>
          <a:solidFill>
            <a:srgbClr val="676767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.SCX driv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038480" y="2362320"/>
            <a:ext cx="1371600" cy="685800"/>
          </a:xfrm>
          <a:prstGeom prst="rect">
            <a:avLst/>
          </a:prstGeom>
          <a:solidFill>
            <a:srgbClr val="676767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.SCX libr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590920" y="3048120"/>
            <a:ext cx="2057760" cy="609840"/>
          </a:xfrm>
          <a:custGeom>
            <a:avLst/>
            <a:gdLst/>
            <a:ahLst/>
            <a:rect l="0" t="0" r="r" b="b"/>
            <a:pathLst>
              <a:path fill="none" w="5716" h="1694">
                <a:moveTo>
                  <a:pt x="0" y="1694"/>
                </a:moveTo>
                <a:lnTo>
                  <a:pt x="0" y="1694"/>
                </a:lnTo>
                <a:cubicBezTo>
                  <a:pt x="1003" y="1694"/>
                  <a:pt x="1989" y="1616"/>
                  <a:pt x="2857" y="1467"/>
                </a:cubicBezTo>
                <a:cubicBezTo>
                  <a:pt x="3727" y="1318"/>
                  <a:pt x="4448" y="1105"/>
                  <a:pt x="4950" y="847"/>
                </a:cubicBezTo>
                <a:cubicBezTo>
                  <a:pt x="5452" y="589"/>
                  <a:pt x="5716" y="297"/>
                  <a:pt x="5716" y="0"/>
                </a:cubicBezTo>
                <a:lnTo>
                  <a:pt x="5716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